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942-7CF1-4399-969C-372D19CA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ach group a different point to substitute into the equations to check to see which one satisifies the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only suggested starters f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614-3B89-48AE-B3AD-DE49F704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B94-53B1-464E-A3E5-7F538A14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D26-4427-47EF-89DE-F603906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309-BF0C-430F-8DFF-A2A2C73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B92C-B440-41FB-AA8F-99891428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C759-691D-4787-8478-0E62A8C8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82B7-FA24-409B-8650-D5103C3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56DE-D6AB-4D47-B1AF-E0CE606D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6F72-91FD-4005-8D60-4ECA8AC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273-0345-43F5-B0FA-FB21966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84EA-9676-4726-8317-F5F3C64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4B8-376F-4803-ADF6-CE2347D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A51-C700-4E56-969B-64B0BA7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B75-94AB-4AA9-93B4-ED1DA52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B22-B00F-46B7-87BF-7371CA9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D9A5-095D-405F-A8AB-B7963F3A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9E56-AED9-432D-AEBD-C9DDC9A3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051-6C01-4D8A-809E-E790090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33-D611-417B-BFC7-CDA8D49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D56-E863-4CFE-AB87-20D27FF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93C-993D-4266-B1B4-B60BBEC6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1C4-92D6-40C2-9A99-E6CF176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A7A-340E-4609-AC80-6217512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6DE-84F2-4ADE-A462-A5A08AF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A00-0DFC-4614-B6E4-037E2F66ED4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1B7B-CCB9-49C9-A707-E1F4E4D33C9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2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8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8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9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684600" y="3173400"/>
            <a:ext cx="177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9 Unit 5 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821120" y="2052720"/>
            <a:ext cx="4068360" cy="2279160"/>
            <a:chOff x="4821120" y="2052720"/>
            <a:chExt cx="4068360" cy="2279160"/>
          </a:xfrm>
        </p:grpSpPr>
        <p:sp>
          <p:nvSpPr>
            <p:cNvPr id="151" name=""/>
            <p:cNvSpPr/>
            <p:nvPr/>
          </p:nvSpPr>
          <p:spPr>
            <a:xfrm>
              <a:off x="5919120" y="3933360"/>
              <a:ext cx="2364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1120" y="2157120"/>
              <a:ext cx="641880" cy="17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325480" y="2052720"/>
              <a:ext cx="3564000" cy="19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369720" y="1917720"/>
            <a:ext cx="450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graph describes Rami’s walk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motion detector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the story that describes this graph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 distance away from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ime in your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86400" y="4352760"/>
            <a:ext cx="2743200" cy="1838160"/>
            <a:chOff x="5486400" y="4352760"/>
            <a:chExt cx="2743200" cy="1838160"/>
          </a:xfrm>
        </p:grpSpPr>
        <p:sp>
          <p:nvSpPr>
            <p:cNvPr id="156" name="Cloud"/>
            <p:cNvSpPr/>
            <p:nvPr/>
          </p:nvSpPr>
          <p:spPr>
            <a:xfrm>
              <a:off x="5486400" y="435276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70800" y="467964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 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92720" y="2973240"/>
            <a:ext cx="4120560" cy="2849400"/>
            <a:chOff x="4392720" y="2973240"/>
            <a:chExt cx="4120560" cy="28494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4899600" y="2973240"/>
              <a:ext cx="36136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506920" y="5308920"/>
              <a:ext cx="239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2720" y="3024360"/>
              <a:ext cx="650880" cy="23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4560" y="1676880"/>
            <a:ext cx="804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A story is described be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that describes the story in the screen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200" y="3045600"/>
            <a:ext cx="4384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5 metres from the wall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lk towards the wall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n back to your starting position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14400" y="4567320"/>
            <a:ext cx="2743200" cy="1838160"/>
            <a:chOff x="1814400" y="4567320"/>
            <a:chExt cx="2743200" cy="1838160"/>
          </a:xfrm>
        </p:grpSpPr>
        <p:sp>
          <p:nvSpPr>
            <p:cNvPr id="166" name="Cloud"/>
            <p:cNvSpPr/>
            <p:nvPr/>
          </p:nvSpPr>
          <p:spPr>
            <a:xfrm>
              <a:off x="1814400" y="45673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8800" y="48942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04920" y="26622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88000" y="1515960"/>
            <a:ext cx="2070000" cy="4469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Explore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416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ermat’s Footwear Wag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8080" y="1425600"/>
            <a:ext cx="69040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338560" y="4889520"/>
            <a:ext cx="2057400" cy="1541520"/>
            <a:chOff x="2338560" y="4889520"/>
            <a:chExt cx="2057400" cy="1541520"/>
          </a:xfrm>
        </p:grpSpPr>
        <p:sp>
          <p:nvSpPr>
            <p:cNvPr id="174" name="Cloud"/>
            <p:cNvSpPr/>
            <p:nvPr/>
          </p:nvSpPr>
          <p:spPr>
            <a:xfrm>
              <a:off x="2338560" y="4889520"/>
              <a:ext cx="2057400" cy="15415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1680" y="5163480"/>
              <a:ext cx="172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130640" y="986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 10 Applied  Unit 4  Day 1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Equations as a Point Test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6160" y="27885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1s +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7600" y="34617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10s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20600" y="42681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100s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6760" y="50349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5s +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TIIimagefile1696" descr="[image]"/>
          <p:cNvPicPr/>
          <p:nvPr/>
        </p:nvPicPr>
        <p:blipFill>
          <a:blip r:embed="rId1"/>
          <a:stretch/>
        </p:blipFill>
        <p:spPr>
          <a:xfrm>
            <a:off x="4470480" y="2114640"/>
            <a:ext cx="4322520" cy="3649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7800" y="2871720"/>
            <a:ext cx="6526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's Pay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6920" y="5705640"/>
            <a:ext cx="259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Value of Sales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6160" y="4746600"/>
            <a:ext cx="16164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45080" y="4429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16480" y="41464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4080" y="38512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2480" y="3583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320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se Questions Connect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42760" y="2832120"/>
            <a:ext cx="4126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n I Buy This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19360" y="3832200"/>
            <a:ext cx="23158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90280" y="4707000"/>
            <a:ext cx="395856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at’s Footwea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Which MP Did You Experienc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52680" y="1895400"/>
            <a:ext cx="4371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6200" y="41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rst Word – Last Wo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319000">
            <a:off x="6130440" y="243360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51600" y="3322800"/>
            <a:ext cx="1452600" cy="1036440"/>
          </a:xfrm>
          <a:prstGeom prst="wedgeRoundRectCallout">
            <a:avLst>
              <a:gd name="adj1" fmla="val -9564"/>
              <a:gd name="adj2" fmla="val 7664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thinking th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8797800">
            <a:off x="5868720" y="442908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32200" y="4975200"/>
            <a:ext cx="1585800" cy="889200"/>
          </a:xfrm>
          <a:prstGeom prst="wedgeRectCallout">
            <a:avLst>
              <a:gd name="adj1" fmla="val 1453"/>
              <a:gd name="adj2" fmla="val 85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y cl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200" y="3656160"/>
            <a:ext cx="1854360" cy="968400"/>
          </a:xfrm>
          <a:prstGeom prst="cloudCallout">
            <a:avLst>
              <a:gd name="adj1" fmla="val -44949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nder i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3630200">
            <a:off x="2070360" y="470376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9480800">
            <a:off x="1644120" y="243684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05280" y="1258920"/>
            <a:ext cx="2836800" cy="1841400"/>
          </a:xfrm>
          <a:prstGeom prst="wedgeEllipseCallout">
            <a:avLst>
              <a:gd name="adj1" fmla="val 4171"/>
              <a:gd name="adj2" fmla="val 670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son I chose this topic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75000" y="3402000"/>
            <a:ext cx="2300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Discussio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65320" y="1282680"/>
            <a:ext cx="2837160" cy="1841400"/>
          </a:xfrm>
          <a:prstGeom prst="wedgeEllipseCallout">
            <a:avLst>
              <a:gd name="adj1" fmla="val 6069"/>
              <a:gd name="adj2" fmla="val 656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cussion topic that I am interested in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200" y="215100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 Identify any stumbling blocks stud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6080" y="374328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dentify any areas that are under or 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zed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es Research Tell Us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6200" y="1697040"/>
            <a:ext cx="84009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8246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2480" y="1676520"/>
            <a:ext cx="798048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74456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Solve all thre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y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832600">
            <a:off x="1047600" y="36860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74456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Pick one or more solutions to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ate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5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832600">
            <a:off x="1066680" y="34999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ocuments"/>
          <p:cNvSpPr/>
          <p:nvPr/>
        </p:nvSpPr>
        <p:spPr>
          <a:xfrm>
            <a:off x="6437160" y="3330720"/>
            <a:ext cx="135288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: 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744560"/>
            <a:ext cx="79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Circulate around the ro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comments or questions to solution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stumbling blocks on stick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558120" y="3384720"/>
            <a:ext cx="1352520" cy="1809720"/>
            <a:chOff x="6558120" y="3384720"/>
            <a:chExt cx="1352520" cy="1809720"/>
          </a:xfrm>
        </p:grpSpPr>
        <p:sp>
          <p:nvSpPr>
            <p:cNvPr id="113" name="Document"/>
            <p:cNvSpPr/>
            <p:nvPr/>
          </p:nvSpPr>
          <p:spPr>
            <a:xfrm>
              <a:off x="6558120" y="3384720"/>
              <a:ext cx="135252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689880" y="3825720"/>
              <a:ext cx="1077840" cy="86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ller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Walk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96160" y="2924280"/>
            <a:ext cx="1225440" cy="1087200"/>
            <a:chOff x="5996160" y="2924280"/>
            <a:chExt cx="1225440" cy="10872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996160" y="2924280"/>
              <a:ext cx="122544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94600" y="299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91320" y="4637160"/>
            <a:ext cx="762120" cy="110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0832600">
            <a:off x="1114560" y="34920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n Can I Buy this Bi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8 Unit 2 Da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80" y="2140200"/>
            <a:ext cx="774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kenzie has found the bicycle that she always wa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sts $350.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e received $300 as a gift from her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long would it take her to save enough money to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bike if she earns $12 a week babysit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64000" y="3881520"/>
            <a:ext cx="2743200" cy="1838160"/>
            <a:chOff x="5364000" y="3881520"/>
            <a:chExt cx="2743200" cy="1838160"/>
          </a:xfrm>
        </p:grpSpPr>
        <p:sp>
          <p:nvSpPr>
            <p:cNvPr id="124" name="Cloud"/>
            <p:cNvSpPr/>
            <p:nvPr/>
          </p:nvSpPr>
          <p:spPr>
            <a:xfrm>
              <a:off x="5364000" y="38815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8400" y="42084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2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2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456000" y="3254400"/>
            <a:ext cx="231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3:28Z</dcterms:modified>
  <cp:revision>94</cp:revision>
  <dc:subject/>
  <dc:title>Slide 1</dc:title>
</cp:coreProperties>
</file>